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81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81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53AA-6DD9-4294-8D55-1A3F6B8E1B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B664-DF7B-4C06-83EA-160D336259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4371-6AEB-4B88-AC94-56CFB118EF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BEA3-FD90-4B86-A7E4-BC72DB99F1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09D3-B3E7-4362-BA15-F00FAF0EC7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A04C-6302-4005-A9F8-DCE56E5E23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0414-D7A7-465F-9294-3361934FB5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72DA-42DA-4DD7-96B1-28731B80B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81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8601-D40E-4E4E-B232-B3A914F7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81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4BEC-75D1-470C-A766-117562321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81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5152-5163-410D-9176-A5A03F30B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764D-B6AC-4357-A40D-FB1FFE384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81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8566-556F-45FD-88F4-0250A572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81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52B1-DEC2-43E9-A169-D44A3A42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81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ED11-1A7F-48F1-A7B8-21963C04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2A8A1-41AC-48A2-90B8-8507402D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954D-05A0-477F-9D83-5BFB3D81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81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CACDD-F5DC-4104-93F9-253E6EF5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81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703F-3C7F-4784-B870-A3B340D5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81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6B12-2FCD-44EA-8FE7-1465552B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81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A675-D8A6-4A3C-B727-8C6143C3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81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514B-3382-4CEF-93E2-9A1987EE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81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C3E2-88D6-484A-B791-FCE41A9A1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81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3CB0-5B89-4AAD-91A8-EF03EADED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63202-45FD-4FEA-8FFA-332DE647E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81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D5568-D98D-4C98-ACD4-FDB78956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81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F9A42-B4A1-4544-A972-EBCA1468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81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1863F-C233-4324-96B7-B2D094C1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38592-7D9E-4DA1-A9B5-7AD20657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81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5603-3CCE-4CC9-B3D6-52B1F182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FDD75-5979-4E5A-B73B-677B983C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81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8D447-5CAA-4A41-B48A-E061500C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81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5075E-24B1-4AAC-ADA2-27592144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81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DB331-4051-4214-A30F-4C08CB67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81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CA194-AE15-4332-BF77-9178B95F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81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5ED63-FF43-4DEC-8217-7B9D21F72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81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947B7-3334-4990-8296-EE2AEEBD2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B403E-82DD-4BB3-8072-0BC8218BA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81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07C23-29BB-4A89-80CE-E575C11E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81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B0EA5-0531-48F0-A3FE-F793A489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81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8BB5-72FD-49D8-8AA5-109291DF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81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7E787-5796-412C-9166-2F8AD0C8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A2B43-6812-4E66-ACC6-ECCA1FEA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2A331-2CF3-4628-B056-3223CD7D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81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24D41-C4E8-4D8A-A0B6-542931DA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81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BE289-0A69-4F16-8604-F4A99485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81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330E7-43C6-4CBC-BF04-E2FAC4E3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81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C74C7-5D52-4066-B287-B0A7B8E4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81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DDC94-1248-4C35-BA2F-5F09C1C2D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81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F9080-77C2-4173-84C6-CD936408C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4376A-305D-49BF-9EBB-2A643DB61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7BAE-C0B2-4AD1-9B41-0B90A525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81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23E73-82B9-4F5C-9A54-AC2AD916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81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2714C-8D8E-45D4-B53D-441FF188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81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2EEB5-E3A5-402D-83FE-9E8B5FB7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01D5B-ECF4-4AF2-B5EA-FE7543EC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E7E33-C013-4743-8E8D-C4C7F5A5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81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9A1E5-3D76-4E2D-99C7-A8267FCC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81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90D41-8706-488E-AA31-BFDCAB7B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81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F50D0-A144-44CE-9460-2A9EBBAA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81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71157-E75D-4689-99E2-8E74AE2A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81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14A3F-453B-4B7D-9550-D85C6D9C9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81EB-EDA3-4C7E-8E23-94BFC697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81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24550-734D-46FB-B4EA-6F9746D46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81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0EFD-FB4D-4BCB-A59E-BFF8CCF0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81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7C94-29F4-46F9-B9A2-B3CDAFF2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81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3E47-F9C6-4F3D-91E3-C5846036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9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81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81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f08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f084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903ae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903aec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903de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ab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cab32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ab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4FD0-674A-4D7A-8E59-2834363890ED}" type="slidenum">
              <a:rPr b="0" lang="en-US" sz="1000" spc="-1" strike="noStrike">
                <a:solidFill>
                  <a:srgbClr val="bcab3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9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81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81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f08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f084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903ae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903aec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903de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ab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cab32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ab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9ECC-A6C4-44A1-9C8A-32A9A0766622}" type="slidenum">
              <a:rPr b="0" lang="en-US" sz="1000" spc="-1" strike="noStrike">
                <a:solidFill>
                  <a:srgbClr val="bcab3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9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81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81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f08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f084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903ae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903aec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903de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ab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cab32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ab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C4AE-4E48-46F7-91F5-BFFD0CA6B5C0}" type="slidenum">
              <a:rPr b="0" lang="en-US" sz="1000" spc="-1" strike="noStrike">
                <a:solidFill>
                  <a:srgbClr val="bcab3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9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81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81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f08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f084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903ae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903aec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903de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ab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cab32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ab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23A8-64CA-4E7C-B49B-565C6ECE1274}" type="slidenum">
              <a:rPr b="0" lang="en-US" sz="1000" spc="-1" strike="noStrike">
                <a:solidFill>
                  <a:srgbClr val="bcab3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9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81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81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f08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f084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903ae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903aec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903de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ab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cab32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ab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D57B-2D8D-405C-8D1A-76A21DAD2275}" type="slidenum">
              <a:rPr b="0" lang="en-US" sz="1000" spc="-1" strike="noStrike">
                <a:solidFill>
                  <a:srgbClr val="bcab3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81"/>
                </a:solidFill>
                <a:latin typeface="Verdana"/>
              </a:rPr>
              <a:t>American College of Nurse Midwives</a:t>
            </a:r>
            <a:endParaRPr b="1" lang="en-US" sz="4500" spc="-1" strike="noStrike">
              <a:solidFill>
                <a:srgbClr val="ffff81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62120" y="4038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7d22"/>
                </a:solidFill>
                <a:latin typeface="Biondi"/>
              </a:rPr>
              <a:t>Represen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7d22"/>
                </a:solidFill>
                <a:latin typeface="Biondi"/>
              </a:rPr>
              <a:t>Cydney Afriat Menihan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7d22"/>
                </a:solidFill>
                <a:latin typeface="Biondi"/>
              </a:rPr>
              <a:t>CNM, MSN, RD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1075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81"/>
                </a:solidFill>
                <a:latin typeface="Verdana"/>
              </a:rPr>
              <a:t>ACNM Guidelines: Limited 3</a:t>
            </a:r>
            <a:r>
              <a:rPr b="1" lang="en-US" sz="2800" spc="-1" strike="noStrike" baseline="30000">
                <a:solidFill>
                  <a:srgbClr val="ffff81"/>
                </a:solidFill>
                <a:latin typeface="Verdana"/>
              </a:rPr>
              <a:t>rd</a:t>
            </a:r>
            <a:r>
              <a:rPr b="1" lang="en-US" sz="2800" spc="-1" strike="noStrike">
                <a:solidFill>
                  <a:srgbClr val="ffff81"/>
                </a:solidFill>
                <a:latin typeface="Verdana"/>
              </a:rPr>
              <a:t> Trimester Ultrasound (1996)</a:t>
            </a:r>
            <a:endParaRPr b="1" lang="en-US" sz="2800" spc="-1" strike="noStrike">
              <a:solidFill>
                <a:srgbClr val="ffff81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8600" y="21333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f08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Identification of Presenting Pa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ff08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Presence/Absence of Cardiac Activ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ff08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Placental lo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ff08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Amniotic Fluid Volu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ff08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Assessment of Fetal Well Be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81"/>
                </a:solidFill>
                <a:latin typeface="Verdana"/>
              </a:rPr>
              <a:t>Members’ Application of Ultrasound (2010 ACNM Survey)</a:t>
            </a:r>
            <a:endParaRPr b="1" lang="en-US" sz="3200" spc="-1" strike="noStrike">
              <a:solidFill>
                <a:srgbClr val="ffff81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7521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f08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Memberships’ interest in expanding guidelines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f084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Estimated fetal age and weight in all trimes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f084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Assessment of fetal grow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f084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Doppler fl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f084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Cervical assess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ff084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GYN (limited) and reproductive technolo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81"/>
                </a:solidFill>
                <a:latin typeface="Verdana"/>
              </a:rPr>
              <a:t>Guidelines Utilized for Practice</a:t>
            </a:r>
            <a:endParaRPr b="1" lang="en-US" sz="3600" spc="-1" strike="noStrike">
              <a:solidFill>
                <a:srgbClr val="ffff81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80880" y="1905120"/>
            <a:ext cx="8183520" cy="3959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f08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AWHON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ff08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ACN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ff08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ACO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ff08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AI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81"/>
                </a:solidFill>
                <a:latin typeface="Verdana"/>
              </a:rPr>
              <a:t>Professional Issues and Concerns:</a:t>
            </a:r>
            <a:endParaRPr b="1" lang="en-US" sz="3200" spc="-1" strike="noStrike">
              <a:solidFill>
                <a:srgbClr val="ffff81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81080"/>
            <a:ext cx="8183520" cy="3959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ff08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Education and trai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ff08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Credentialing/cer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ff08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Competency valid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ff08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Li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ff08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Collaboration and consul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ff08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Reimburs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ff08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Working in AIUM accredited facil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ff084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81"/>
                </a:solidFill>
                <a:latin typeface="Verdana"/>
              </a:rPr>
              <a:t>Thank You!</a:t>
            </a:r>
            <a:endParaRPr b="1" lang="en-US" sz="4500" spc="-1" strike="noStrike">
              <a:solidFill>
                <a:srgbClr val="ffff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Cydney</dc:creator>
  <dc:description/>
  <dc:language>en-US</dc:language>
  <cp:lastModifiedBy>Glynis Harvey</cp:lastModifiedBy>
  <dcterms:modified xsi:type="dcterms:W3CDTF">2010-10-28T13:28:40Z</dcterms:modified>
  <cp:revision>5</cp:revision>
  <dc:subject/>
  <dc:title>American College of Nurse Midwives</dc:title>
</cp:coreProperties>
</file>